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12A-8531-4CCF-93E4-7A9A6181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736-30D2-4DC1-B6C3-ABBA065F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D3C-6D3C-411A-8185-98F3F6B8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CE3-10C1-478B-A0D1-A05818BC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714F-08B6-461D-9919-DF2CF417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C076-63CD-44FD-874D-208A5FF0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65C8-CED5-4C71-A41F-6DD02B28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374D-6D4C-4F7E-8E31-CC3E74E9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0AB2-4D5A-490B-8C73-FEB561A1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0524-41A1-48D8-B4AF-B7E12318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B1C9-543D-4125-8DDA-AF2E0844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43F-D78A-4F42-A4A6-67AEBE5C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EE35-520C-48DB-B298-0B54CB4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D549-1BCC-46E1-AAF2-2306DDDE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DE80-18AA-48BE-AE1A-E5977399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0DC0-E591-401D-85A3-8EE81106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6C3D-1018-4A93-8F61-92943DEC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CBC3-A9D7-442C-B75C-1D23903D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E60E-CFD4-4BCB-91A4-C2C282A6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C685-9027-49D8-B10F-A1C533BC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0434-E34D-4B31-97B5-A886D2CA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0342-7411-45F4-8CEF-28A40C05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312-89AB-4029-9583-C2226007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332C-6233-481F-852B-C6BB8063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449C-61F5-4709-BCB9-098A012B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7DF11-A493-41F0-BAEA-3F69B276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534E-A1A2-4CD9-9D3A-18120306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37CE-EAAD-4F71-BDA4-E8EE5A16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29249-4B89-4582-849E-1AD6BB05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2A84-DF18-492B-9CFC-76A767FB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8DD1-B82B-4118-85B7-00BA4AE7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0E49E-3BA1-45F1-8261-C0619E59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B3CF9-8A03-4685-9340-2F28AEF9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647-C2DF-4517-A228-EF20258C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5768-BFE1-4A58-9545-95C61B62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DE362-0521-4F54-9E1D-12632B0B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6326-AD93-46D5-87B7-E79C8A1A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F4FB0-1424-4CA3-8823-5E8C1C2E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C029-3A7D-4C5D-A88A-4A091EF4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B9E1-37E9-4E04-B83B-845E6613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8421F-74A9-4F21-9B81-268E90B8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F4CD-8FB9-46C3-9AF4-F755C680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A3150-F4CF-4204-9255-DBB9E52C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677C2-0CE6-4FBD-A25B-34D4CCF9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E32-1B88-4587-87F9-97464EB1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05ECF-01FC-401A-9B65-5A0F0E1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48F9A-8352-4D49-B1DA-1476B597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A0349-255F-4809-8D39-75CA7FB8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E9E40-4849-4FD0-95C0-34F512FF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9978C-77EE-41A0-9B0D-EF73FDEB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AF429-A6B9-4463-A06D-B0B8C16C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8333A-47BB-4BE6-B9F0-672559B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90B3F-CCAC-4080-936F-2C275143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C1C2-8569-478B-9787-6EEA4216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F9BE8-9692-47B4-8514-3731D8B2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00A-E606-49B9-A0C6-77907270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5CBAF-AECF-45ED-AFA3-D3BF7273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7C6D7-3B56-453C-A8BB-7F09FEAB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C62DB-3CA4-4488-8F18-83B981EE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996F6-DCFF-4B19-B65D-51415865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F87BE-5B83-4F5A-9A74-E8D8AC94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0EA9D-2741-4FD5-98E2-71D1E3B0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56EAC-31EE-40EF-8DCB-82CC5E88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AF13-A156-42D5-B0F0-A3CB9096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E5D77-C381-4CD6-82BC-0A9A315B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DD017-C893-4963-86DD-332F4129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BBB-A986-4339-BE2A-8C5A2CE8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47183-928C-4F92-9796-7BFC2460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F7F36-BB1E-4E05-8828-96E7824E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E5DBD-0844-4D86-84BD-19FACF67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24BA6-CAA8-4D77-9FC9-0FF9E58A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01924-98B6-49D0-94C8-53688914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2E826-9C5E-4D82-BB0E-80B849DE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5E463-4C5F-4C00-96CB-6FB8A825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1A020-1422-49F7-AA5D-9AF065CC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3F4B5-1224-48CC-B3C4-47D3469C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248C5-638A-4D26-8A39-50D18534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9D9-8A8A-445A-B443-BD7BF9DE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A88B9-2E5A-43CD-9B59-828D9928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15833-63F5-480F-9224-F154475B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562BA-AC3C-45CB-B3DB-99B4380A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F27C2-59E8-49BB-8683-5DC9F2A8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6011B-1015-474F-A29A-F3322663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87D-79A0-4E9B-9DAB-E7458FC5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F9BF-A0A0-4CEA-89E5-6A7FABDB1D27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CB92-18D4-421F-8F40-077B48F44D73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7E10-528E-4A9A-AD92-67D6C8D47961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5848-AB04-4C21-BC20-7C141F9F5B72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E67E-7F80-4A73-9762-E2AEDE123B83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7D88-EE2F-4700-A7C7-D73CF1E1D4EF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20 Conector recto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26 Conector recto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30 Conector recto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6944-6E2C-462B-80F3-43EF4FCDE5D5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895320" y="1085760"/>
            <a:ext cx="77850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258920" y="3715920"/>
            <a:ext cx="1425600" cy="48276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fa326"/>
                </a:solidFill>
                <a:latin typeface="Franklin Gothic Book"/>
              </a:rPr>
              <a:t>BRESCIA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70" name="Picture 2" descr="http://2.bp.blogspot.com/_6rJZaviC4NY/RgbWqs7n4VI/AAAAAAAAAp8/opljYa1U5eM/s320/Brescia+Catedral+Nueva.jpg"/>
          <p:cNvPicPr/>
          <p:nvPr/>
        </p:nvPicPr>
        <p:blipFill>
          <a:blip r:embed="rId1"/>
          <a:stretch/>
        </p:blipFill>
        <p:spPr>
          <a:xfrm>
            <a:off x="1042920" y="549360"/>
            <a:ext cx="2038320" cy="3047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3.bp.blogspot.com/-4oE1G67McKc/TqyJgmNZpQI/AAAAAAAACEs/dHPVrtUDXys/s1600/Copenhague+Alemania+Octubre+2011+513.JPG"/>
          <p:cNvPicPr/>
          <p:nvPr/>
        </p:nvPicPr>
        <p:blipFill>
          <a:blip r:embed="rId2"/>
          <a:stretch/>
        </p:blipFill>
        <p:spPr>
          <a:xfrm>
            <a:off x="3551400" y="549360"/>
            <a:ext cx="4643280" cy="3095640"/>
          </a:xfrm>
          <a:prstGeom prst="rect">
            <a:avLst/>
          </a:prstGeom>
          <a:ln w="0">
            <a:noFill/>
          </a:ln>
        </p:spPr>
      </p:pic>
      <p:sp>
        <p:nvSpPr>
          <p:cNvPr id="372" name="5 CuadroTexto"/>
          <p:cNvSpPr/>
          <p:nvPr/>
        </p:nvSpPr>
        <p:spPr>
          <a:xfrm>
            <a:off x="4634640" y="386064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fa326"/>
                </a:solidFill>
                <a:latin typeface="Franklin Gothic Book"/>
              </a:rPr>
              <a:t>BRANDENBURGER TOR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73" name="7 Título" descr=""/>
          <p:cNvPicPr/>
          <p:nvPr/>
        </p:nvPicPr>
        <p:blipFill>
          <a:blip r:embed="rId3"/>
          <a:stretch/>
        </p:blipFill>
        <p:spPr>
          <a:xfrm>
            <a:off x="871560" y="4334040"/>
            <a:ext cx="7845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7:51:36Z</dcterms:created>
  <dc:creator>Lidia</dc:creator>
  <dc:description/>
  <dc:language>en-US</dc:language>
  <cp:lastModifiedBy>Lidia</cp:lastModifiedBy>
  <dcterms:modified xsi:type="dcterms:W3CDTF">2012-05-16T18:15:04Z</dcterms:modified>
  <cp:revision>1</cp:revision>
  <dc:subject/>
  <dc:title>ESTATUAS Y Catedrales con tejados  verdes</dc:title>
</cp:coreProperties>
</file>